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D716-3BD4-40D2-9A64-389B225C8A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ую страничку можно сделать и в начале презентации, после титульного слайда и здесь ее оставить. В идеале с Вашим портретом, как руководителя и контактами: школьными и ва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201B-350A-49F8-BC0D-43A2C8E1E0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D5E9-D573-424F-BE4D-CB91583719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03AD-7F7B-4745-B300-267E5F3A5F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родители и де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39A0-DB78-46C4-8882-53DB47E3BF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77D2-7569-4BF4-8640-873D46EDFF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EC28-14D1-4CDC-ACC9-652203D723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BD8A-5504-4C7F-A01A-125BAEC2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9EA8-A0CA-4BEB-93BC-D1E7B243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CA41-EA1E-497F-A167-89B9C1F1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FBAB-157D-4F83-816A-8BBA3B902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3503-90D4-49D6-8023-1D8C1439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FDFC-7507-4A89-B302-F41C5CAA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21AF-18F3-4004-A68D-58CE3F9A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C3AB-29D1-46FF-BC3C-859B0512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DB5A-6D1B-45E1-8C13-FE8710AB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89EF-8E27-42F2-931E-23F3E25A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B166-956D-41BD-A0A6-CA596D73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3376-81F7-47B9-B0A5-A4DEB3BC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FBA0-1C58-4116-B5D3-59E28F0E5F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school25-1.nichost.ru/" TargetMode="External"/><Relationship Id="rId3" Type="http://schemas.openxmlformats.org/officeDocument/2006/relationships/hyperlink" Target="http://school25-1.nichost.ru/" TargetMode="External"/><Relationship Id="rId4" Type="http://schemas.openxmlformats.org/officeDocument/2006/relationships/hyperlink" Target="http://fppkdo.ru/" TargetMode="External"/><Relationship Id="rId5" Type="http://schemas.openxmlformats.org/officeDocument/2006/relationships/hyperlink" Target="http://fppkdo.ru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Комплексная работа с детьми-мигрантами и их семь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ЛОГОТИП.jpg"/>
          <p:cNvPicPr/>
          <p:nvPr/>
        </p:nvPicPr>
        <p:blipFill>
          <a:blip r:embed="rId1"/>
          <a:stretch/>
        </p:blipFill>
        <p:spPr>
          <a:xfrm>
            <a:off x="7885080" y="260280"/>
            <a:ext cx="1000080" cy="135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Компьютер\Desktop\image-0-02-04-738d563361c1bef40d7eeaa3d37082833ee0dbe9298d45281f20ce9eb65b3813-V.jpg"/>
          <p:cNvPicPr/>
          <p:nvPr/>
        </p:nvPicPr>
        <p:blipFill>
          <a:blip r:embed="rId2"/>
          <a:stretch/>
        </p:blipFill>
        <p:spPr>
          <a:xfrm>
            <a:off x="6429240" y="323856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Компьютер\Desktop\image-0-02-05-a3714fccbf8aa9231b73be3af03623221656469d64b2cfd0ac8b5adcd224602e-V.jpg"/>
          <p:cNvPicPr/>
          <p:nvPr/>
        </p:nvPicPr>
        <p:blipFill>
          <a:blip r:embed="rId3"/>
          <a:stretch/>
        </p:blipFill>
        <p:spPr>
          <a:xfrm>
            <a:off x="571680" y="1428840"/>
            <a:ext cx="2697120" cy="359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Users\Компьютер\Desktop\image-0-02-05-ddd26c04c31ce88ff296fde6e2e6388fc68bb60b442db91e5e7d666fce474996-V.jpg"/>
          <p:cNvPicPr/>
          <p:nvPr/>
        </p:nvPicPr>
        <p:blipFill>
          <a:blip r:embed="rId4"/>
          <a:stretch/>
        </p:blipFill>
        <p:spPr>
          <a:xfrm>
            <a:off x="2357280" y="3238560"/>
            <a:ext cx="2468880" cy="361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Users\Компьютер\Downloads\image-0-02-04-0efe733febc1798837dbf6bd77ba9e91c38617110e8326669aa1f61c2480edc3-V.jpg"/>
          <p:cNvPicPr/>
          <p:nvPr/>
        </p:nvPicPr>
        <p:blipFill>
          <a:blip r:embed="rId5"/>
          <a:stretch/>
        </p:blipFill>
        <p:spPr>
          <a:xfrm>
            <a:off x="4714920" y="1428840"/>
            <a:ext cx="2517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нкета для родителей-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71720" y="1000080"/>
          <a:ext cx="7758000" cy="5608800"/>
        </p:xfrm>
        <a:graphic>
          <a:graphicData uri="http://schemas.openxmlformats.org/drawingml/2006/table">
            <a:tbl>
              <a:tblPr/>
              <a:tblGrid>
                <a:gridCol w="428400"/>
                <a:gridCol w="5643720"/>
                <a:gridCol w="1685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Вашего приезда в г. Перм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ш родной язык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язык, на котором вы общаетесь дом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тели бы изучать русский язык в нашей школ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удобное для Вас время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и ваш ребёнок чувствует себя в школе комфортн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ешение каких вопросов или проблем Вам может помочь наша шко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-285840"/>
            <a:ext cx="807264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:</a:t>
            </a:r>
            <a:br>
              <a:rPr sz="40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ановление сотрудничества школы и семьи данной категории в вопросах воспитания детей, поддержка семьи в сложные для семьи пери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000160" y="2714760"/>
            <a:ext cx="5589720" cy="395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иглашаем мам и пап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ипы семейного воспитания и их влияние на ребенка. Встреча с председателем КДН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ья, как система. Нормативные и ненормативные кризисы. Адаптация к школ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ейные традиции. Профессии моей семьи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зитивное взаимодействие родитель-ребено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чение без принужде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Эстафета дружб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А на прощание я скажу…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Взаимодействие с партнёр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4D2B~1\AppData\Local\Temp\Rar$DI00.900\IMG_9684.JPG"/>
          <p:cNvPicPr/>
          <p:nvPr/>
        </p:nvPicPr>
        <p:blipFill>
          <a:blip r:embed="rId2"/>
          <a:stretch/>
        </p:blipFill>
        <p:spPr>
          <a:xfrm>
            <a:off x="822240" y="1000080"/>
            <a:ext cx="82504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3880" y="214200"/>
            <a:ext cx="7991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6 шагов к успешной адаптации детей - 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56800" y="1071360"/>
            <a:ext cx="8001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стреча с семьё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агностика ребёнка – инофона (на входе, промежуточная, итоговая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комендация программы, клас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нятия для детей – мигрантов в малых групп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астие в работе клубов «Жихарка», «Дискуссионный» (дети); «Азбука успеха» (родител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нсультации специалистов (по запросу родителей и рекомендации классного руководителя, психолог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7" descr="teach.png"/>
          <p:cNvPicPr/>
          <p:nvPr/>
        </p:nvPicPr>
        <p:blipFill>
          <a:blip r:embed="rId1"/>
          <a:stretch/>
        </p:blipFill>
        <p:spPr>
          <a:xfrm>
            <a:off x="6410160" y="3143160"/>
            <a:ext cx="2733840" cy="3714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857160" y="571320"/>
            <a:ext cx="7429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school25-1.nichost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папка «ЦИО Университетского округа ПГГП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fppkdo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курсы ЦИО. Тем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 языковой и речевой культу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– мигрантов начальной школы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актное лиц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лена Николаев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 - (908) - 251 - 44 - 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личественное соотношение детей-мигрантов в МАОУ «СОШ №25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781200" y="1779480"/>
            <a:ext cx="8154720" cy="44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5880" y="1428480"/>
            <a:ext cx="81439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ализация образовательных программ обучения детей-мигрантов c учетом их индивидуальных особенностей, уровня владения языком, с помощью повышения уровня заинтересованности родителей в образовательном процессе и создания устойчивого положительного эмоционального фона в школьном коллекти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142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разработать механизм диагнос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создать систему разноуровневого подхода к обуч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создать клуб для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)создать сеть школ-партнеров города Перми и Пермского кр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) создать сеть социальных партнё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ая соединительная линия 13"/>
          <p:cNvSpPr/>
          <p:nvPr/>
        </p:nvSpPr>
        <p:spPr>
          <a:xfrm flipV="1">
            <a:off x="2000160" y="2857320"/>
            <a:ext cx="5929560" cy="612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14"/>
          <p:cNvSpPr/>
          <p:nvPr/>
        </p:nvSpPr>
        <p:spPr>
          <a:xfrm>
            <a:off x="2000160" y="3857760"/>
            <a:ext cx="5929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7"/>
          <p:cNvSpPr/>
          <p:nvPr/>
        </p:nvSpPr>
        <p:spPr>
          <a:xfrm>
            <a:off x="1891440" y="1928880"/>
            <a:ext cx="603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Участник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5"/>
          <p:cNvSpPr/>
          <p:nvPr/>
        </p:nvSpPr>
        <p:spPr>
          <a:xfrm>
            <a:off x="1571760" y="135720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2561760" y="1465200"/>
            <a:ext cx="44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Административная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10"/>
          <p:cNvSpPr/>
          <p:nvPr/>
        </p:nvSpPr>
        <p:spPr>
          <a:xfrm>
            <a:off x="1571760" y="2292480"/>
            <a:ext cx="642960" cy="57132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12"/>
          <p:cNvSpPr/>
          <p:nvPr/>
        </p:nvSpPr>
        <p:spPr>
          <a:xfrm>
            <a:off x="1571760" y="328608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2526840" y="2143080"/>
            <a:ext cx="579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Социально – психологическая служ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2438640" y="3357720"/>
            <a:ext cx="15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Педаг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11"/>
          <p:cNvSpPr/>
          <p:nvPr/>
        </p:nvSpPr>
        <p:spPr>
          <a:xfrm>
            <a:off x="1571760" y="4286160"/>
            <a:ext cx="642960" cy="57168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Овал 13"/>
          <p:cNvSpPr/>
          <p:nvPr/>
        </p:nvSpPr>
        <p:spPr>
          <a:xfrm>
            <a:off x="1571760" y="5500800"/>
            <a:ext cx="642960" cy="57132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14"/>
          <p:cNvSpPr/>
          <p:nvPr/>
        </p:nvSpPr>
        <p:spPr>
          <a:xfrm>
            <a:off x="2286000" y="4714920"/>
            <a:ext cx="578628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14"/>
          <p:cNvSpPr/>
          <p:nvPr/>
        </p:nvSpPr>
        <p:spPr>
          <a:xfrm>
            <a:off x="2214720" y="6000840"/>
            <a:ext cx="585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2500200" y="42861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Дети и родители  - мигра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0"/>
          <p:cNvSpPr/>
          <p:nvPr/>
        </p:nvSpPr>
        <p:spPr>
          <a:xfrm>
            <a:off x="2357280" y="4857840"/>
            <a:ext cx="55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Социальные партнёры (представители диаспор, НП «ЭТНОПЕРМЬ», Совет молодёжи при Пермской городской дум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7240" y="1425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рганизационное взаимодействие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хема 4" descr=""/>
          <p:cNvPicPr/>
          <p:nvPr/>
        </p:nvPicPr>
        <p:blipFill>
          <a:blip r:embed="rId1"/>
          <a:stretch/>
        </p:blipFill>
        <p:spPr>
          <a:xfrm>
            <a:off x="811080" y="993600"/>
            <a:ext cx="7985160" cy="51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одель реализаци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хема 4" descr=""/>
          <p:cNvPicPr/>
          <p:nvPr/>
        </p:nvPicPr>
        <p:blipFill>
          <a:blip r:embed="rId1"/>
          <a:stretch/>
        </p:blipFill>
        <p:spPr>
          <a:xfrm>
            <a:off x="669960" y="993600"/>
            <a:ext cx="838836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учителей школ - партнёр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42960" y="135684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ПГ , 2 модульных курса «Развитие языковой и речевой культуры у детей - мигрантов» - курсы университетского ок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DSC_0476"/>
          <p:cNvPicPr/>
          <p:nvPr/>
        </p:nvPicPr>
        <p:blipFill>
          <a:blip r:embed="rId1"/>
          <a:stretch/>
        </p:blipFill>
        <p:spPr>
          <a:xfrm>
            <a:off x="4584600" y="2928960"/>
            <a:ext cx="4403880" cy="242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SC_0473"/>
          <p:cNvPicPr/>
          <p:nvPr/>
        </p:nvPicPr>
        <p:blipFill>
          <a:blip r:embed="rId2"/>
          <a:stretch/>
        </p:blipFill>
        <p:spPr>
          <a:xfrm>
            <a:off x="857160" y="4500720"/>
            <a:ext cx="3876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родителей </a:t>
            </a:r>
            <a:br>
              <a:rPr sz="3200"/>
            </a:b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луб «Азбука успех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62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07:22:55Z</dcterms:created>
  <dc:creator>Irina Polinceva</dc:creator>
  <dc:description/>
  <dc:language>en-US</dc:language>
  <cp:lastModifiedBy>Компьютер</cp:lastModifiedBy>
  <dcterms:modified xsi:type="dcterms:W3CDTF">2020-03-18T14:42:59Z</dcterms:modified>
  <cp:revision>107</cp:revision>
  <dc:subject/>
  <dc:title>Развитие  языковой и  речевой  компетентности  детей  мигрантов</dc:title>
</cp:coreProperties>
</file>